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jeopardy.wav" ContentType="audio/x-wav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4C5-F4AB-44C4-813E-B8A67351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0B6-AA3A-40FA-9E77-2484B466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493-6077-48C9-8649-72640C41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431-2B46-4FFB-803E-AC2CCD6E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E64E-FA52-4089-9F1C-B1342123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A0F0-DD57-4444-BEAC-5A970F60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0035-D894-4008-9498-D378AD54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DA95-9C8D-475A-92D0-32095765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8B9B-5690-4435-B858-51E5091E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5527-3391-4C76-8ED1-B4396635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3437-9954-4EB0-B2EB-57E7E29F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420-4C87-431F-BFD0-B07070F9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8739-C3C0-4C0E-9073-5F460719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4F97-D7FE-43E3-8F43-8C3DDD88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6E73-6BE6-44FC-A187-78AA2B58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64D3-9C82-45EA-9C7B-4ABC55ED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84C4-C4D5-48A4-9172-F7E0E2E1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723-61FC-4993-9689-64FA5956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5DB-111C-4385-A797-09860C38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284-8215-42A2-9299-E22F956F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597-6312-4CD8-962B-C3D34F10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6FA-7AAC-42D3-BA9E-573F3D70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331-70ED-449E-BF3B-7631ABC0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ACC-E818-41BF-90A2-C27CE9AE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6C3B-2288-4393-B8D8-C0C235454A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B3C8-4B62-44BD-B1B0-DA012554D1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24.xml"/><Relationship Id="rId10" Type="http://schemas.openxmlformats.org/officeDocument/2006/relationships/slide" Target="slide16.xml"/><Relationship Id="rId11" Type="http://schemas.openxmlformats.org/officeDocument/2006/relationships/slide" Target="slide26.xml"/><Relationship Id="rId12" Type="http://schemas.openxmlformats.org/officeDocument/2006/relationships/slide" Target="slide18.xml"/><Relationship Id="rId13" Type="http://schemas.openxmlformats.org/officeDocument/2006/relationships/slide" Target="slide28.xml"/><Relationship Id="rId14" Type="http://schemas.openxmlformats.org/officeDocument/2006/relationships/slide" Target="slide20.xml"/><Relationship Id="rId15" Type="http://schemas.openxmlformats.org/officeDocument/2006/relationships/slide" Target="slide22.xml"/><Relationship Id="rId16" Type="http://schemas.openxmlformats.org/officeDocument/2006/relationships/audio" Target="../media/jeopardy.wav"/><Relationship Id="rId1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8400"/>
            <a:ext cx="8686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How to use the Jeopardy Templat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py the presentation to your hard driv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en up the game board slide, determine the category of questions you want to construct and substitute the proper text for each catego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llow the order of the slides to construct questions for each category and put the answers for each question in the following slid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ete this slide (slide #1) after you are do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ve the fi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e: You may want to substitute the background graphic for your presentation with an image that is more appropriate for your topi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Category 1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7320" y="228600"/>
            <a:ext cx="380880" cy="380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305920" y="6248520"/>
            <a:ext cx="609480" cy="3664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7268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268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3246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32462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32462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98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7240" y="2819520"/>
            <a:ext cx="565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2000" y="2514600"/>
            <a:ext cx="575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solidFill>
            <a:srgbClr val="c67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32462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32462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T’S PLAY JEOPARDY!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76520" y="6102360"/>
            <a:ext cx="6057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32462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218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92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192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8" dur="192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0" dur="192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380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32462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2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686800" y="6477120"/>
            <a:ext cx="457200" cy="380880"/>
          </a:xfrm>
          <a:prstGeom prst="rect">
            <a:avLst/>
          </a:prstGeom>
          <a:solidFill>
            <a:srgbClr val="c67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8077320" y="6491160"/>
            <a:ext cx="38088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9" dur="7268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268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32462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1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30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98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32462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2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300"/>
                            </p:stCondLst>
                            <p:childTnLst>
                              <p:par>
                                <p:cTn id="5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32462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69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3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762120" y="1535040"/>
          <a:ext cx="7775280" cy="46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5040"/>
                    <a:ext cx="777528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83808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tegory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tegory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tegory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4240" y="152388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tegory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5400" y="1523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ategory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0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2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3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4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66200" y="632448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80360" y="236520"/>
            <a:ext cx="35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 Rounded MT Bold"/>
              </a:rPr>
              <a:t>Jeopard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32462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69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8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1" dur="32462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3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300"/>
                            </p:stCondLst>
                            <p:childTnLst>
                              <p:par>
                                <p:cTn id="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Category 4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3" dur="32462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218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Category 4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8153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924680" y="6324480"/>
            <a:ext cx="68580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2" dur="7268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8268"/>
                            </p:stCondLst>
                            <p:childTnLst>
                              <p:par>
                                <p:cTn id="7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5" dur="32462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89280" y="32194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32462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200"/>
                            </p:stCondLst>
                            <p:childTnLst>
                              <p:par>
                                <p:cTn id="7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8200" y="62485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2462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32462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76600" y="2286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200"/>
                            </p:stCondLst>
                            <p:childTnLst>
                              <p:par>
                                <p:cTn id="8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0" dur="32462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Category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category 4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16240" y="2590920"/>
            <a:ext cx="70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Mixed Category 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1" dur="32462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70480" y="2590920"/>
            <a:ext cx="682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mixed category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16240" y="2590920"/>
            <a:ext cx="70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Mixed Category 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3" dur="32462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70480" y="2590920"/>
            <a:ext cx="682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mixed category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6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300 Question from Category 5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16240" y="2590920"/>
            <a:ext cx="70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Mixed Category 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4" dur="32462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874440"/>
            <a:ext cx="822960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70480" y="2590920"/>
            <a:ext cx="682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mixed category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Category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16240" y="2590920"/>
            <a:ext cx="70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Mixed Category 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6" dur="32462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400 Answer from Category 5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70480" y="2590920"/>
            <a:ext cx="682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400-question-mixed category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Category 5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AILY DOUBLE </a:t>
            </a:r>
            <a:br>
              <a:rPr sz="28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16240" y="2590920"/>
            <a:ext cx="705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Mixed Category 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8153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8001000" y="6324480"/>
            <a:ext cx="68580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9" dur="7268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8268"/>
                            </p:stCondLst>
                            <p:childTnLst>
                              <p:par>
                                <p:cTn id="10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2" dur="32462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45820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500 Answer from Category 5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70480" y="2590920"/>
            <a:ext cx="682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500-question-mixed category(5)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4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4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Final Jeopardy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66320" y="2590920"/>
            <a:ext cx="415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al Jeopardy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6" dur="7268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Final Jeopardy Answer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0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4280" y="2590920"/>
            <a:ext cx="415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al Jeopardy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2462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Category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9200" y="2590920"/>
            <a:ext cx="575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246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Category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8640" y="259092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 text to answer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0-question-category 1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21:38:36Z</dcterms:created>
  <dc:creator>Cheryl Diermyer</dc:creator>
  <dc:description/>
  <dc:language>en-US</dc:language>
  <cp:lastModifiedBy>SD#34</cp:lastModifiedBy>
  <dcterms:modified xsi:type="dcterms:W3CDTF">2008-07-15T19:23:57Z</dcterms:modified>
  <cp:revision>74</cp:revision>
  <dc:subject/>
  <dc:title>Slide 1</dc:title>
</cp:coreProperties>
</file>